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4022280" y="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956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402228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B161-A4E8-4B02-BD59-65A3EF00DEA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8A39-A48C-47C8-9A0D-FE89813F9AC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Robert Boyle, 1627- 1692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66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에 실험을 통해 쥐의 생명을 유지하는 데 신선한 공기가 필수적임을 보여 주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쥐를 넣은 용기를 밀폐시켰더니 쥐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간 만에 죽었고 다시 그 용기에 다른 쥐를 넣었더니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분만에 죽은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보일은 호흡의 목적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바람이 체표면의 물을 말리는 것처럼 혈액 중에서 배설되는 휘발성 증기를 공기와 결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association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켜 외부로 가지고 나오는 것이라고 생각하였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리고 이 휘발성 증기는 물질이 탈 때 나오는 검댕이나 연기와 마찬가지로 동물이 생명을 유지하지 못하도록 방해한다는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일의 결론은 한번 호흡에 사용된 공기는 적어도 같은 종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8114-E660-458A-B72B-601090DEDF3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EFAB-3508-41CC-A0C6-FE620B949D8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정된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산화탄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호흡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연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발효 시에 생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연성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탈 수 있는 기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플로지스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? (1776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빠진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질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초석의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산화 탄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의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생명의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산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쉘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프리스틀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F093-BEB7-4D5F-A7A8-B7A8FA69534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분석은 어떻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태워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68D2-0659-4E9F-A480-9F7AE7EEA84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처음엔 기름 성분의 흙에 명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 자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6870-68C4-41B2-9B99-E3E3C0996BC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80B8-9EF7-4CAE-94EA-6C862D6F226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1"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플로지스톤 이론은 다양한 현상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연소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식물의 성장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소화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호흡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금속의 융해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에 관한 일관적 설명을 제공함으로써 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18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세기 화학의 튼튼한 이론적 틀을 제공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061F-76A0-4B67-9074-225FC58ABC5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33DF-6D79-4F53-A412-3FAFF41EFF7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1" marL="45720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정치적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·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종교적으로 급진적 성향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ff"/>
                </a:solidFill>
                <a:latin typeface="맑은 고딕"/>
              </a:rPr>
              <a:t>타당성이 점차 의심되고 있었던 플로지스톤 이론의 약한 고리를 땜질하고 개량해나갔던 인물 </a:t>
            </a:r>
            <a:r>
              <a:rPr b="0" lang="ko-KR" sz="23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ko-KR" sz="2300" spc="-1" strike="noStrike">
                <a:solidFill>
                  <a:srgbClr val="0000ff"/>
                </a:solidFill>
                <a:latin typeface="맑은 고딕"/>
              </a:rPr>
              <a:t> 마지막까지 새로운 화학 이론을 받아들이지 않았음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프리스틀리는 요즈음 우리가 여름이면 즐겨 찾는 청량 음료를 처음 발명한 과학자이기도 하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탄산가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 그때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정된 기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 알려졌던 기체에 압력을 가해 물에 녹여 넣으면 천연 광천수처럼 거품이 나는 물이 된다는 것을 처음 알아낸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발명으로 그는 영국 왕립 학회의 가장 영광스런 명예라 할 수 있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코플리 메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받기도 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44E7-BF45-4E59-827F-486D82FE075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D9F2-170D-4DE2-94AE-7BDDE01AC07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6913-A2FA-419F-AB7F-5811F0D9F777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200" y="5564160"/>
            <a:ext cx="5684760" cy="3903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 대립쌍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의 성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 중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의 조합으로 구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이 바뀌면 원소도 바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탁월한 설명력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물을 가열하면 증발하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연금술에 이론적 기반 제공</a:t>
            </a:r>
            <a:r>
              <a:rPr b="0" lang="en-US" sz="15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0E34-68D3-4E07-9404-6920876804C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843F-29D1-498F-9ABD-166E4F3379A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프리스틀리는 이 공기 안에서 불꽃이 더 밝고 뜨겁게 타오르며 생쥐가 일반 공기에서보다 두 배 이상 오래 살 수 있음을 발견하였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공기는 플로기스톤이 없으므로 가연성 물질에 포함된 플로기스톤과 쉽게 결합하여 연소 현상을 일으킨다는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26A7-D60B-4EA0-B962-1EF2FEA68FA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72DE-0B33-4FCC-BB09-1E74D6E8BAE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자칭 물리학자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물리학의 방법을 화학에 적용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프린키피아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&gt;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의 확실성과 예측력 본받기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정량화 정신”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정밀 측정 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&amp;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수학적 형식화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왜 고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체 한 방울도 빠져나가지 못하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또 아주 작은 무게도 정확하게 측정해야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4811-89BB-424C-80E0-87D9E230D49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질량보존의 법칙을 전제로 하고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3BD9-B4C6-45E2-836D-8FDB4DF3670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888E-FDFD-439C-BC15-6E043F47110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F3A7-1684-4A1F-B15A-2F95BCC2914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He heated mercury and air using a bell-jar for 12 days.  Red mercury calx (HgO) formed and the volume of air decreased from 50 to 42 in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vantGarde Bk BT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. 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F6CA-48AA-4725-B9A7-4BB947EBED5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The red [HgO] was heated in a retort producing 8 in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vantGarde Bk BT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 of dephlogisticated air [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vantGarde Bk BT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]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B7E2-C9D1-4F68-88F7-2E06CA1BB56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화학 실험 도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저울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금속 녹이는 도가니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플라스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증류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실험 방법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증류법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개발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여러 종류의 물질 추출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새로운 물질 이론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용어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연금술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화학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alchemy/chemistry)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알코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alcohol)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알칼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alkali)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증류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alembic)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소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soda)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등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7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물질 이론 개량</a:t>
            </a:r>
            <a:r>
              <a:rPr b="0" lang="en-US" sz="25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황</a:t>
            </a:r>
            <a:r>
              <a:rPr b="0" lang="en-US" sz="25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수은</a:t>
            </a:r>
            <a:r>
              <a:rPr b="0" lang="en-US" sz="25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염 이론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7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연금술의 목적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후원자의 의도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영약 창조 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&amp;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금 변환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연금술사들의 목적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영혼의 정화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7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이후 영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실험장치와 증류법과 같은 실험기술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다양한 물질들 추출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목적하던 금은 만들지 못했지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뜻하지도 않게 근대 화학의 기반을 닦았던 것이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영국의 철학자 프랜시스 베이컨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Francis Bacon;1561-1626)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은 연금술이 화학에 남긴 유산에 대하여 이솝의 우화를 예로 들어 설명했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"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연금술은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임종시에 아들들에게 포도밭에 금을 묻어 두었다고 유언을 남긴 어느 농부와 같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그 말을 들은 아들들은 포도밭을 정신없이 파헤쳤지만 금은 나오지 않았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대신 그해 가을의 포도 수확은 매우 풍성했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이와 마찬가지로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금을 만들어 내려고 시도했던 많은 연금술사의 노력은 뜻하지 않은 새로운 발명과 화학의 진보를 가져왔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 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84A3-1CBB-4F07-8D24-21A1DF34C63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5B47-E82A-4D76-9646-5DC1BDD3C38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1"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새로운 공기’가 비금속물질들과 반응해 산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(acid)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를 만든다는 데서 착안해서 ‘산소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(oxigen)’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라 명명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441C-5718-4BEA-A708-2FA03CF9EC3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32A8-6207-4E62-8452-C566A80EA3A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7D39-0644-4F31-89B7-5758C4C1C4D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4B72-E1F2-4BDE-80E8-92AF056A027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7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4D1A-07BB-4D70-BC1B-1FF32F81275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6876-6198-426B-922A-3896E9E7935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EA9A-5B0E-4F51-B31B-D9E78C274B0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9E60-08DE-4CCF-927C-280DDE8A5D5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93F8-4CE4-43A0-BEB2-A6FEA5CC0A0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1422-2879-47C9-9870-C46B67942ED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EF99-B4BA-400D-89B0-643D9792AA3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0A81-65CF-43C1-B516-CF8839E2077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6521-9C80-4259-8DD2-797D737D9BC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CF77-4067-4505-9D5E-C644808BE39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벨기에의 의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혼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뜻하는 그리스어 카오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chaos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서 이름을 따 기체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gas) 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명명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9DB4-6334-46DE-B123-CF43F408563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820E-088E-4E87-A6A3-AF518A98409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43F-544F-4EF2-ACAF-1BE3DB52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25A-DF91-40A5-8CBD-D4B7107D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871-EA7B-46F1-B508-4582E76F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11B-2383-4D0F-893C-96631A72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3D9E-2780-4361-94EE-8F51E66F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97E6-4F2D-4748-87DA-0883DF83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FFF6-2DC1-4898-980B-E2A7C328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80B3-87F4-4B0F-BDDA-7303CDC7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FC34-5CD1-47CA-861E-A90F64CC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EC06-361C-4170-B169-4FF7CFA1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8A96-37CD-41C0-A7CD-56350E04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BC0-D6C1-4065-AA72-FC3F79F6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ECD4-106B-4A3F-92A5-48D6C3C6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88C5-C5A5-43A5-8D02-2589C673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A8D7-AE53-40A7-93D1-AF8B42E0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FBD3-B1FB-4CE9-8B5A-1CAEF939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7AB9-4415-4205-8272-05EDED70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DCC6A-AF6B-4C40-B50C-629F021F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76220-AB66-4643-9E61-787170F9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D70EB-490A-40A9-9D0D-1690FD2C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C2FCB-84EE-4629-A6CB-1203137B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BD69D-A9ED-4F97-BA29-7CD50F1A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ABF-9096-41CE-9FDE-0B5EB894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254B2-6A59-4EE7-91C4-BDB587FA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4547E-A9DD-4CF0-99A0-FD2F342B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6D192-10CB-4544-9347-D181CCB5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88E314-C81C-4B3A-9AB7-5953F912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52175-9253-4D39-A939-88663E42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F653B-8547-4A7C-AC1C-D7BA5467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3FBE8-9F4E-4FCE-8EF5-1D94E1B8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3D72E-8E2C-4757-8607-E5FBC07E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B3658-7B84-4CDA-B818-31B53D19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32C77-FD6C-4A14-B36A-7D8F1E83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52D-A467-4598-B72D-222FBA16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17F79-C665-45FA-BD6A-174EB7BA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AA286-8673-47BD-80CF-F691FA04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249E5-6F15-4842-85D4-37256902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47316-9BF8-4C24-AEE5-4D5A47A4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AF7AD-10C9-4CCE-ABD8-A4D739F8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FEB46-6AC0-4DF5-923C-9A4F6D35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B2DC6-AEB9-491F-A0BD-CA3AA35C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78546-9ABA-47EF-B7CF-98C1F67A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19341-BD9C-44F1-B64E-DBC25B12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B09A-7209-428C-B6B6-AD91607B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86F-67AD-40D3-AD26-418D12CD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7C6-480B-4373-BEEF-CD4933CE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46DB-5590-4D7C-BF1D-D9645871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39F-695B-4377-8C66-340EE5A9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C695-7391-4B49-B454-64A62E8B2FA1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직사각형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직사각형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직사각형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모서리가 둥근 직사각형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모서리가 둥근 직사각형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직사각형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직사각형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직사각형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ECEF-B3C1-4BAD-836D-40593153DA3B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DAF4-82A8-4D37-A0B6-3FEBBB48F2DE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724B-7256-4421-A9FC-4C3F05EA36E7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genious.org.uk/See/?target=SeeMedium&amp;ObjectID=%7B5ADE6355-B01E-F295-8CCB-ECEAFC9BBDF5%7D&amp;Mode=HotBox&amp;ArticleID=%7B8602B302-C162-4E6D-9E4F-B95F0BAE1DEC%7D&amp;viewby=images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920"/>
            <a:ext cx="8458200" cy="13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438086"/>
                </a:solidFill>
                <a:latin typeface="Trebuchet MS"/>
              </a:rPr>
              <a:t>라부아지에와 화학 혁명</a:t>
            </a:r>
            <a:endParaRPr b="1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deded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static.guim.co.uk/Guardian/artanddesign/gallery/2008/oct/28/1000-artworks-to-see-before-you-die-art1/GD7816824@BAL5872-An-Experiment-2252.jpg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공기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/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진공을 이용한 실험들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18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세기 영국의 기체화학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헤일즈의 개방형 압력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수집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727)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다양한 기체의 분리 및 성질 연구 전통 확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4652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고정된 공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조지프 블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1756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연성 공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헨리 캐븐디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1776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나빠진 공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조지프 프리스틀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1770s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불의 공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생명의 공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쉘레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프리스틀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1770s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53" name="Picture 5" descr="http://m1.ikiwq.com/img/xl/UhyIgR9UayDNzTXXEXN4dd.jpg"/>
          <p:cNvPicPr/>
          <p:nvPr/>
        </p:nvPicPr>
        <p:blipFill>
          <a:blip r:embed="rId1"/>
          <a:stretch/>
        </p:blipFill>
        <p:spPr>
          <a:xfrm>
            <a:off x="2843280" y="404640"/>
            <a:ext cx="340020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18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세기 독일의 분석화학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광업의 발달로 여러 물질의 구성물 분석 발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슈탈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660-1734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후 플로지스톤 이론 확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플로지스톤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22160" y="4868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연소를 가능케 해주는 원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연소 및 하소 시 물질에서 빠져나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58" name="Picture 2" descr="http://t2.gstatic.com/images?q=tbn:ANd9GcRMwUOg_TQV_yvjIKc3dHDT_UXVmjrJjPFC8zfsU4HsoRKBCxd4fA"/>
          <p:cNvPicPr/>
          <p:nvPr/>
        </p:nvPicPr>
        <p:blipFill>
          <a:blip r:embed="rId1"/>
          <a:stretch/>
        </p:blipFill>
        <p:spPr>
          <a:xfrm>
            <a:off x="1547640" y="609480"/>
            <a:ext cx="61642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연소현상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나무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방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하소현상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금속 </a:t>
            </a:r>
            <a:r>
              <a:rPr b="0" lang="ko-KR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방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금속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불타는 초를 유리병으로 덮으면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잠시 후 유리병 내부의 플로지스톤 포화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더 이상 연소 불가능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초가 꺼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화학혁명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프랑스의 라부아지에에 의해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영국의 기체화학 전통과 독일의 분석화학 전통 통합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연소 이론이 산소 연소 이론으로 교체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정량적 방법과 새로운 원소 체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화학반응식 확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89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프리스틀리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733-1804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22160" y="587700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영국의 화학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목사 겸 대중 과학 강연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67" name="Picture 4" descr="Click for larger picture!"/>
          <p:cNvPicPr/>
          <p:nvPr/>
        </p:nvPicPr>
        <p:blipFill>
          <a:blip r:embed="rId1"/>
          <a:stretch/>
        </p:blipFill>
        <p:spPr>
          <a:xfrm>
            <a:off x="3059280" y="907920"/>
            <a:ext cx="309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32000" y="5013360"/>
            <a:ext cx="35622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쥐와 초는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손상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”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 생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식물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손상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”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를 개선시켜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70" name="Picture 7" descr="priestleyexp"/>
          <p:cNvPicPr/>
          <p:nvPr/>
        </p:nvPicPr>
        <p:blipFill>
          <a:blip r:embed="rId1"/>
          <a:stretch/>
        </p:blipFill>
        <p:spPr>
          <a:xfrm>
            <a:off x="539640" y="692280"/>
            <a:ext cx="430056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아리스토텔레스의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4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설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4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4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성질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25" name="Picture 4" descr="Scan0036"/>
          <p:cNvPicPr/>
          <p:nvPr/>
        </p:nvPicPr>
        <p:blipFill>
          <a:blip r:embed="rId1"/>
          <a:stretch/>
        </p:blipFill>
        <p:spPr>
          <a:xfrm>
            <a:off x="1908000" y="692280"/>
            <a:ext cx="5472360" cy="49701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5219640" y="3860640"/>
            <a:ext cx="35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‘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플로지스톤 없는 공기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’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774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 고온 가열하여 수은과 함께 얻은 </a:t>
            </a:r>
            <a:r>
              <a:rPr b="1" lang="ko-KR" sz="2600" spc="-1" strike="noStrike" u="sng">
                <a:solidFill>
                  <a:srgbClr val="ffc000"/>
                </a:solidFill>
                <a:uFillTx/>
                <a:latin typeface="Georgia"/>
              </a:rPr>
              <a:t>새로운 공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많은 공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함유된 공기 </a:t>
            </a:r>
            <a:r>
              <a:rPr b="0" lang="ko-KR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없는 공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22160" y="414972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플로지스톤 없는 공기 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= 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생명의 공기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77" name="Picture 9" descr="priestapp2"/>
          <p:cNvPicPr/>
          <p:nvPr/>
        </p:nvPicPr>
        <p:blipFill>
          <a:blip r:embed="rId1"/>
          <a:stretch/>
        </p:blipFill>
        <p:spPr>
          <a:xfrm>
            <a:off x="1258920" y="476280"/>
            <a:ext cx="676908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375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라부아지에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743-1794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573264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프랑스의 징세청부업자 겸 권위있는 과학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80" name="Picture 5" descr="Lavoisier (17 ko)"/>
          <p:cNvPicPr/>
          <p:nvPr/>
        </p:nvPicPr>
        <p:blipFill>
          <a:blip r:embed="rId1"/>
          <a:stretch/>
        </p:blipFill>
        <p:spPr>
          <a:xfrm>
            <a:off x="2843280" y="765000"/>
            <a:ext cx="33066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39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무게측정법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gravimetric method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22160" y="5373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반응 전후 반응물과 생성물의 무게 측정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비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의 무게까지 측정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 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고가의 정밀 장치 필요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83" name="Picture 6" descr="[Engraving]"/>
          <p:cNvPicPr/>
          <p:nvPr/>
        </p:nvPicPr>
        <p:blipFill>
          <a:blip r:embed="rId1"/>
          <a:stretch/>
        </p:blipFill>
        <p:spPr>
          <a:xfrm>
            <a:off x="1908000" y="620640"/>
            <a:ext cx="54007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금속 하소 전후 무게 분석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금속의 무게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&lt;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금속재의 무게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수은의 무게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&lt;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수은재의 무게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금속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공기중의 </a:t>
            </a:r>
            <a:r>
              <a:rPr b="1" lang="ko-KR" sz="2400" spc="-1" strike="noStrike">
                <a:solidFill>
                  <a:srgbClr val="ffffff"/>
                </a:solidFill>
                <a:latin typeface="Georgia"/>
              </a:rPr>
              <a:t>무언가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= 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금속재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프리스틀리의 파리 방문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774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ffc000"/>
                </a:solidFill>
                <a:latin typeface="Georgia"/>
              </a:rPr>
              <a:t>수은재 가열하여 </a:t>
            </a:r>
            <a:r>
              <a:rPr b="0" lang="en-US" sz="23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300" spc="-1" strike="noStrike">
                <a:solidFill>
                  <a:srgbClr val="ffc000"/>
                </a:solidFill>
                <a:latin typeface="Georgia"/>
              </a:rPr>
              <a:t>플로지스톤 없는</a:t>
            </a:r>
            <a:r>
              <a:rPr b="0" lang="en-US" sz="23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300" spc="-1" strike="noStrike">
                <a:solidFill>
                  <a:srgbClr val="ffc000"/>
                </a:solidFill>
                <a:latin typeface="Georgia"/>
              </a:rPr>
              <a:t>공기</a:t>
            </a:r>
            <a:r>
              <a:rPr b="0" lang="en-US" sz="2300" spc="-1" strike="noStrike">
                <a:solidFill>
                  <a:srgbClr val="ffc000"/>
                </a:solidFill>
                <a:latin typeface="Georgia"/>
              </a:rPr>
              <a:t>’ </a:t>
            </a:r>
            <a:r>
              <a:rPr b="0" lang="ko-KR" sz="2300" spc="-1" strike="noStrike">
                <a:solidFill>
                  <a:srgbClr val="ffc000"/>
                </a:solidFill>
                <a:latin typeface="Georgia"/>
              </a:rPr>
              <a:t>얻는 실험 목격</a:t>
            </a:r>
            <a:endParaRPr b="0" lang="en-US" sz="23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라부아지에의 아이디어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ffffff"/>
                </a:solidFill>
                <a:latin typeface="Georgia"/>
              </a:rPr>
              <a:t>앞서의 </a:t>
            </a:r>
            <a:r>
              <a:rPr b="1" lang="ko-KR" sz="2300" spc="-1" strike="noStrike">
                <a:solidFill>
                  <a:srgbClr val="ffffff"/>
                </a:solidFill>
                <a:latin typeface="Georgia"/>
              </a:rPr>
              <a:t>무언가</a:t>
            </a:r>
            <a:r>
              <a:rPr b="0" lang="ko-KR" sz="2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= </a:t>
            </a:r>
            <a:r>
              <a:rPr b="0" lang="ko-KR" sz="2300" spc="-1" strike="noStrike">
                <a:solidFill>
                  <a:srgbClr val="ffffff"/>
                </a:solidFill>
                <a:latin typeface="Georgia"/>
              </a:rPr>
              <a:t>프리스틀리의 </a:t>
            </a: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‘</a:t>
            </a:r>
            <a:r>
              <a:rPr b="0" lang="ko-KR" sz="2300" spc="-1" strike="noStrike">
                <a:solidFill>
                  <a:srgbClr val="ffffff"/>
                </a:solidFill>
                <a:latin typeface="Georgia"/>
              </a:rPr>
              <a:t>플로지스톤 없는 공기</a:t>
            </a: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’</a:t>
            </a:r>
            <a:endParaRPr b="0" lang="en-US" sz="23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수은 하소에 대한 새로운 이론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 중의 무언가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 </a:t>
            </a:r>
            <a:r>
              <a:rPr b="0" lang="ko-KR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 중의 무언가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어떻게 입증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?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반응 전후 고체 무게 측정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기체 부피 변화 측정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수은을 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A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에 넣고 가열하면 </a:t>
            </a:r>
            <a:br>
              <a:rPr sz="3000"/>
            </a:b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오른쪽 유리병의 기체 부피 감소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8 in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rebuchet MS"/>
              </a:rPr>
              <a:t>3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92" name="Picture 5" descr="LavoisierHgCalx"/>
          <p:cNvPicPr/>
          <p:nvPr/>
        </p:nvPicPr>
        <p:blipFill>
          <a:blip r:embed="rId1"/>
          <a:stretch/>
        </p:blipFill>
        <p:spPr>
          <a:xfrm>
            <a:off x="1476360" y="981000"/>
            <a:ext cx="6408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수은재를 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N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에 넣고 가열하면</a:t>
            </a:r>
            <a:br>
              <a:rPr sz="3000"/>
            </a:b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유리병의 기체 부피 증가 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8 in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rebuchet MS"/>
              </a:rPr>
              <a:t>3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95" name="Picture 7" descr="LavoisierHgCalx into Hg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89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이슬람 연금술의 발전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2160" y="595008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험 도구와 방법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용어 개발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다양한 물질 추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29" name="Picture 4" descr="Islamic sublimation and alembic apparatus, 10th-12th century.">
            <a:hlinkClick r:id="rId1"/>
          </p:cNvPr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250920" y="836640"/>
            <a:ext cx="2985840" cy="4176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http://www.the-spoiler.com/ADVENTURE/Her.interactive/nancy.drew.curse.of.blackmoor.manor.1/NDcurse/planetsdoor.jpg"/>
          <p:cNvPicPr/>
          <p:nvPr/>
        </p:nvPicPr>
        <p:blipFill>
          <a:blip r:embed="rId3"/>
          <a:stretch/>
        </p:blipFill>
        <p:spPr>
          <a:xfrm>
            <a:off x="7812000" y="836640"/>
            <a:ext cx="1332000" cy="273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http://www.the-spoiler.com/ADVENTURE/Her.interactive/nancy.drew.curse.of.blackmoor.manor.1/NDcurse/elements.jpg"/>
          <p:cNvPicPr/>
          <p:nvPr/>
        </p:nvPicPr>
        <p:blipFill>
          <a:blip r:embed="rId4"/>
          <a:srcRect l="0" t="0" r="0" b="51548"/>
          <a:stretch/>
        </p:blipFill>
        <p:spPr>
          <a:xfrm>
            <a:off x="3348000" y="83664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질량 증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부피 감소   질량 감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부피 증가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고체 질량 증가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=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고체 질량 감소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 부피 감소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=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 부피 증가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98" name="Picture 6" descr="mercury into mercury oxide"/>
          <p:cNvPicPr/>
          <p:nvPr/>
        </p:nvPicPr>
        <p:blipFill>
          <a:blip r:embed="rId1"/>
          <a:stretch/>
        </p:blipFill>
        <p:spPr>
          <a:xfrm>
            <a:off x="684360" y="1484280"/>
            <a:ext cx="3816360" cy="18306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mercury oxide into mercury"/>
          <p:cNvPicPr/>
          <p:nvPr/>
        </p:nvPicPr>
        <p:blipFill>
          <a:blip r:embed="rId2"/>
          <a:stretch/>
        </p:blipFill>
        <p:spPr>
          <a:xfrm>
            <a:off x="4716360" y="1484280"/>
            <a:ext cx="388944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무언가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– ‘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산소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’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명명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산소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 </a:t>
            </a:r>
            <a:r>
              <a:rPr b="0" lang="ko-KR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산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연소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하소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)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란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질에서 무언가가 방출되는 것이 아님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질이 공기 중의 산소와 결합하는 것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lvl="1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산소와의 결합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/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분해라는 틀을 이용해</a:t>
            </a: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  <a:p>
            <a:pPr lvl="1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연소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호흡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산화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환원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산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염기 이론 통일</a:t>
            </a: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거부 반응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722160" y="270792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화학반응 과정에서 성질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모양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색깔 등등이 다 바뀌는데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무게라고 바뀌지 못한다는 법이 어디 있는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92d050"/>
              </a:solidFill>
              <a:latin typeface="Georgia"/>
            </a:endParaRPr>
          </a:p>
          <a:p>
            <a:pPr lvl="1" marL="743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Georgia"/>
            </a:endParaRPr>
          </a:p>
          <a:p>
            <a:pPr lvl="1" marL="743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용기를 통과할 수 있는 다른 존재자들이 무게에 영향을 줄 수도 있지 않겠는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92d05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물은 원소가 아니라 화합물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연성 공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5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레인과 생명의 공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85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레인을 함께 태워 정확히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00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레인의 물을 얻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분해의 방법으로 동일한 원소들을 똑같은 비율로 되찾을 수 있다는 것을 보고 나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어떻게 그 이론을 의심할 수 있겠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” 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라부아지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1787)</a:t>
            </a:r>
            <a:endParaRPr b="0" lang="en-US" sz="2600" spc="-1" strike="noStrike">
              <a:solidFill>
                <a:srgbClr val="c991cb"/>
              </a:solidFill>
              <a:latin typeface="Georgia"/>
            </a:endParaRPr>
          </a:p>
          <a:p>
            <a:pPr lvl="2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991cb"/>
              </a:solidFill>
              <a:latin typeface="Georgia"/>
            </a:endParaRPr>
          </a:p>
          <a:p>
            <a:pPr lvl="2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수소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산소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물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= 15 : 85 : 100</a:t>
            </a:r>
            <a:endParaRPr b="0" lang="en-US" sz="2600" spc="-1" strike="noStrike">
              <a:solidFill>
                <a:srgbClr val="c991cb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56000" y="1980720"/>
            <a:ext cx="4138560" cy="310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rebuchet MS"/>
              </a:rPr>
              <a:t>《</a:t>
            </a:r>
            <a:r>
              <a:rPr b="1" lang="ko-KR" sz="3700" spc="-1" strike="noStrike">
                <a:solidFill>
                  <a:srgbClr val="ffffff"/>
                </a:solidFill>
                <a:latin typeface="Trebuchet MS"/>
              </a:rPr>
              <a:t>화학원론</a:t>
            </a:r>
            <a:r>
              <a:rPr b="1" lang="en-US" sz="3700" spc="-1" strike="noStrike">
                <a:solidFill>
                  <a:srgbClr val="ffffff"/>
                </a:solidFill>
                <a:latin typeface="Trebuchet MS"/>
              </a:rPr>
              <a:t>》</a:t>
            </a:r>
            <a:r>
              <a:rPr b="1" lang="en-US" sz="3700" spc="-1" strike="noStrike">
                <a:solidFill>
                  <a:srgbClr val="ffffff"/>
                </a:solidFill>
                <a:latin typeface="Trebuchet MS"/>
              </a:rPr>
              <a:t>(1789)</a:t>
            </a:r>
            <a:endParaRPr b="1" lang="en-US" sz="37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7280" y="5157360"/>
            <a:ext cx="40669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산소 연소 이론 주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체계적인 원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화합물 명명법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화학반응식 도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11" name="Picture 6" descr="traite de chimie 1"/>
          <p:cNvPicPr/>
          <p:nvPr/>
        </p:nvPicPr>
        <p:blipFill>
          <a:blip r:embed="rId1"/>
          <a:stretch/>
        </p:blipFill>
        <p:spPr>
          <a:xfrm>
            <a:off x="684360" y="620640"/>
            <a:ext cx="360036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89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원소 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33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종에 대해 새롭게 명명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580500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빛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열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산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질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소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14" name="Picture 4" descr="Lavoisier's Table of Simple Substances"/>
          <p:cNvPicPr/>
          <p:nvPr/>
        </p:nvPicPr>
        <p:blipFill>
          <a:blip r:embed="rId1"/>
          <a:srcRect l="0" t="0" r="0" b="55622"/>
          <a:stretch/>
        </p:blipFill>
        <p:spPr>
          <a:xfrm>
            <a:off x="2195640" y="549360"/>
            <a:ext cx="4698720" cy="459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화합물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관용명 대신 구성 원소에 따라 명명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22160" y="6237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아연꽃 </a:t>
            </a:r>
            <a:r>
              <a:rPr b="0" lang="en-US" sz="20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산화아연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고정된 공기 </a:t>
            </a:r>
            <a:r>
              <a:rPr b="0" lang="ko-KR" sz="20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산화탄소 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비트리올 </a:t>
            </a:r>
            <a:r>
              <a:rPr b="0" lang="ko-KR" sz="20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황산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17" name="Picture 5" descr="Lavoisier's Table of the combinations of Oxygen with the compound radicals"/>
          <p:cNvPicPr/>
          <p:nvPr/>
        </p:nvPicPr>
        <p:blipFill>
          <a:blip r:embed="rId1"/>
          <a:srcRect l="0" t="0" r="0" b="19331"/>
          <a:stretch/>
        </p:blipFill>
        <p:spPr>
          <a:xfrm>
            <a:off x="2411280" y="333360"/>
            <a:ext cx="4105440" cy="520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화학반응식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22160" y="522900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반응물과 생성물 사이의 정량적인 등식 성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20" name="Picture 7" descr="Equazione stechiometrica pubblicata da Lavoisier"/>
          <p:cNvPicPr/>
          <p:nvPr/>
        </p:nvPicPr>
        <p:blipFill>
          <a:blip r:embed="rId1"/>
          <a:stretch/>
        </p:blipFill>
        <p:spPr>
          <a:xfrm>
            <a:off x="755640" y="1341360"/>
            <a:ext cx="7728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실용적 기술 발전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야금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합금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화약제조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염색기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잔 골린스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〈“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실험의 정확성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”〉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리처드 커완과 제임스 와트는 각각 라부아지에의 물 합성 실험을 어떻게 해석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라부아지에의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1784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년 실험에 대한 프리스틀리의 반론은 무엇인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실험기구가 다루기 어렵고 비싸다는 점은 어떤 문제를 야기하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니콜슨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(1788)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은 라부아지에의 논증을 어떻게 평가하고 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저자의 주장은 무엇인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저자의 주장에 동의하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파라켈수스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스위스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, 1493-1541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2160" y="566064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리스토텔레스주의 거부하고 연금술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리 채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광물을 이용한 의화학 창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36" name="Picture 2" descr="http://image.pressian.com/images/2008/04/30/40080430154338%5b4%5d.jpg"/>
          <p:cNvPicPr/>
          <p:nvPr/>
        </p:nvPicPr>
        <p:blipFill>
          <a:blip r:embed="rId1"/>
          <a:stretch/>
        </p:blipFill>
        <p:spPr>
          <a:xfrm>
            <a:off x="2843280" y="692280"/>
            <a:ext cx="33130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3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리설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황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가연성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수은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유동성과 휘발성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염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고체성과 안정성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연소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연성 원리인 황이 물질에서 방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22160" y="220500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의학적 진리를 찾고자 한다면 먼저 고대 문헌부터 치워 버리고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식물이나 광물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별에 대한 연구에 몰두해야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자신의 교과서는 히포크라테스와 갈레노스로부터 발췌 편집한 것이 아니라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‘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경험에 근거하여’ 새로이 썼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나는 무엇이든 증명하고자 할 때 관련 문헌을 인용하지 않고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실험과 추론에 의해 결과를 얻어 냈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”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공기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air)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에서 기체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gas)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로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반 헬몬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579-1644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나무 기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”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≠ 공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42" name="Picture 2" descr="http://2.bp.blogspot.com/_csrew_uNe9k/TJBmqnNRJrI/AAAAAAAADkU/JcEz7s7Ga0c/s400/jean+baptiste+van+helmont+-+willow2.gif"/>
          <p:cNvPicPr/>
          <p:nvPr/>
        </p:nvPicPr>
        <p:blipFill>
          <a:blip r:embed="rId1"/>
          <a:stretch/>
        </p:blipFill>
        <p:spPr>
          <a:xfrm>
            <a:off x="1211400" y="4221000"/>
            <a:ext cx="4297320" cy="1944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://c.ask.nate.com/imgs/qrsi.php/8380767/10925005/0/1/A/01.jpg"/>
          <p:cNvPicPr/>
          <p:nvPr/>
        </p:nvPicPr>
        <p:blipFill>
          <a:blip r:embed="rId2"/>
          <a:stretch/>
        </p:blipFill>
        <p:spPr>
          <a:xfrm>
            <a:off x="5651640" y="4149720"/>
            <a:ext cx="27842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=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분해불가능한 근본물질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로버트 보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회의적 화학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》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661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의 종류는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직 모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험을 해봐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05:18:02Z</dcterms:created>
  <dc:creator>zolaist</dc:creator>
  <dc:description/>
  <dc:language>en-US</dc:language>
  <cp:lastModifiedBy>zolaist</cp:lastModifiedBy>
  <dcterms:modified xsi:type="dcterms:W3CDTF">2011-05-06T05:54:34Z</dcterms:modified>
  <cp:revision>58</cp:revision>
  <dc:subject/>
  <dc:title>라부아지에와 화학 혁명</dc:title>
</cp:coreProperties>
</file>